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4671-DF03-4572-BD40-FFADDD5B8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E893-BE00-4F61-9C87-F033C7F7F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EEA9-27E8-4145-95CB-8449DAE79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CA34-1912-4D8C-91B6-E141699B4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14F4-8CC9-4717-A318-248F3B3A5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DE19-DE84-4608-A538-7D021EFE5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84A7-551C-4BD0-963B-A78D5EF9B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2D22-A1EA-45A2-BF47-1D0BE1B16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A947-D0B2-44A8-81FF-63D0F4461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29AD-890B-4F76-A19E-2EEE72B6A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6E33-67CC-4A92-9E30-44EAECCCF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C34B-A0A9-4FA3-862B-B5310C701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D3A87-E839-4899-944E-273C07C7EC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Guide 3-1 Classifying Ma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10666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substanc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144792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matter that always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has exactly the same fixed, uniform composition (make-u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22096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: 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table salt; su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590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2 categories of pure substa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19320" y="297180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Elements:  substance which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cannot be broken down into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simpler substan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0200" y="373392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fixed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composition because it only has one kind of at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19320" y="426708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Compounds: substance that is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made from 2 or more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simpler substances and can be broken down into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those simpler subst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properties of a compound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are DIFFERENT than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those of the substance which make them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3880" y="1523880"/>
            <a:ext cx="70866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compounds ALWAYS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contain 2 or more elements joined in a FIXED proportion.  EX: H</a:t>
            </a:r>
            <a:r>
              <a:rPr b="0" lang="en-US" sz="2400" spc="-1" strike="noStrike" baseline="-25000">
                <a:solidFill>
                  <a:srgbClr val="9966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23623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x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2819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combo of various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substances (each stays as itsel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335268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NO fixed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composi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33526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EX: sal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38862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2 categories of mix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43000" y="4343400"/>
            <a:ext cx="7620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terogeneous –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parts noticeably diffe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: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s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Homogeneous—substances evenly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distributed,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difficult to tell one substance from an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5120" y="16002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looks like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one substa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0574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: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water in a swimming p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666880" y="25146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chlorine, water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28954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32767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a homogenous mixture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formed when substances dissol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95280" y="365760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: 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windshield fluid –substance dissolves to form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40384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pens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14400" y="44956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heterogeneous mixture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that separates into layers over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19320" y="4952880"/>
            <a:ext cx="73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: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vinegar and oil salad dressing – distinct layers after a 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while left al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oi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90720" y="137160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substance which contains some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particles that are intermediate (middle) in size between the smaller particles in a solution and the larger particles in a susp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5146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:   --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homogenized milk –fat lay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30481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Fog – water drop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02:40:34Z</dcterms:created>
  <dc:creator>jpak</dc:creator>
  <dc:description/>
  <dc:language>en-US</dc:language>
  <cp:lastModifiedBy>Customer</cp:lastModifiedBy>
  <dcterms:modified xsi:type="dcterms:W3CDTF">2009-10-02T12:25:18Z</dcterms:modified>
  <cp:revision>13</cp:revision>
  <dc:subject/>
  <dc:title>Note Guide 3-1 Classifying Matter</dc:title>
</cp:coreProperties>
</file>